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354-4A93-412B-B31C-A26D5E28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E6F2-08C9-4595-A415-A8B0D623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6CE5-EDA0-4388-A824-6093A8B4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E70F-4FC9-465C-811A-B722E61E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8B13-6370-46DE-A7D7-A4F13F3B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C20-87AB-49D3-B7CA-DEA2C887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CF96-D4F3-48B0-9AE8-F60E432E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46BC-2AD5-4BA8-95FA-E84F1626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6F5-2076-408D-949A-3FA49D0A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323-33B8-46C5-8EC4-61694951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19B-AD07-4C83-8111-1B92BE3E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AAEC-8071-44EA-AEF8-8A652C38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CAD6-BCEA-43A8-83CE-EEA48B347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10280" y="518148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chell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1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 Computer #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838080"/>
            <a:ext cx="70866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prstDash val="lgDashDot"/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UNO</a:t>
            </a:r>
            <a:endParaRPr b="0" lang="en-US" sz="1800" spc="1" strike="noStrike">
              <a:ln w="12600">
                <a:solidFill>
                  <a:srgbClr val="000000"/>
                </a:solidFill>
                <a:prstDash val="lgDashDot"/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Gulak"/>
          <p:cNvPicPr/>
          <p:nvPr/>
        </p:nvPicPr>
        <p:blipFill>
          <a:blip r:embed="rId1"/>
          <a:srcRect l="55444" t="0" r="11958" b="0"/>
          <a:stretch/>
        </p:blipFill>
        <p:spPr>
          <a:xfrm>
            <a:off x="914400" y="441972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191120" y="3962520"/>
            <a:ext cx="38088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86200" y="4800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 Ben Gul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Gulak"/>
          <p:cNvPicPr/>
          <p:nvPr/>
        </p:nvPicPr>
        <p:blipFill>
          <a:blip r:embed="rId1"/>
          <a:srcRect l="55444" t="0" r="11958" b="0"/>
          <a:stretch/>
        </p:blipFill>
        <p:spPr>
          <a:xfrm>
            <a:off x="2438280" y="228600"/>
            <a:ext cx="4038840" cy="3733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5715000"/>
            <a:ext cx="435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, MIT Program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U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/16/11,http://web.mit.edu/invent/iow/gula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/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o is a one wheeled motor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n electric b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ctually has two wheels connected to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uses computer technology to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tually legal on str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/Ben Gul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Canada in 19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n second place with Uno in a humongous science 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on Jay Leno with Uno in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nherited the equipment to build the Uno  when his grandpa died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ent to China and saw all the pollution and that’s what made him decide to build the U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8:12Z</dcterms:created>
  <dc:creator>install</dc:creator>
  <dc:description/>
  <dc:language>en-US</dc:language>
  <cp:lastModifiedBy>install</cp:lastModifiedBy>
  <dcterms:modified xsi:type="dcterms:W3CDTF">2011-06-01T17:44:26Z</dcterms:modified>
  <cp:revision>9</cp:revision>
  <dc:subject/>
  <dc:title>Slide 1</dc:title>
</cp:coreProperties>
</file>